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44.jpeg" ContentType="image/jpeg"/>
  <Override PartName="/ppt/media/image17.wmf" ContentType="image/x-wmf"/>
  <Override PartName="/ppt/media/image13.jpeg" ContentType="image/jpeg"/>
  <Override PartName="/ppt/media/image40.jpeg" ContentType="image/jpeg"/>
  <Override PartName="/ppt/media/image12.png" ContentType="image/png"/>
  <Override PartName="/ppt/media/image32.jpeg" ContentType="image/jpeg"/>
  <Override PartName="/ppt/media/image33.png" ContentType="image/png"/>
  <Override PartName="/ppt/media/image31.jpeg" ContentType="image/jpeg"/>
  <Override PartName="/ppt/media/image41.png" ContentType="image/png"/>
  <Override PartName="/ppt/media/image37.jpeg" ContentType="image/jpeg"/>
  <Override PartName="/ppt/media/image42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47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43.jpeg" ContentType="image/jpeg"/>
  <Override PartName="/ppt/media/image5.png" ContentType="image/png"/>
  <Override PartName="/ppt/media/image7.jpeg" ContentType="image/jpe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226-F40D-4B41-8109-2EDC5BFB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A71-C28B-41E4-80D7-8CDC9FA7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46F-6A04-4C0C-AA7D-2B97C9A2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303-3D35-4775-B974-25DF6C32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60A-A7CF-4598-BD17-754142DC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9E17-5D49-4F54-A1FD-8D436A5A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86AD-9BD6-4062-94A7-1B88E74D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E5F4-43F7-4781-AA56-7477EB2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BCE8-7D81-435B-BD34-67E516C0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433D-7EBB-4D16-B51D-35BA59DD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AFC0-C9B0-404A-BBDE-0E5240C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212-671E-4C3E-BB1A-7C395722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AB50-0B34-400F-B511-AF9F0EF3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AAD8-DCAE-4604-91E6-A7B5D610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2A23-1461-42B9-A382-7C56D20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4228-1563-4E8D-B60D-D336F0C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0E51-36C0-4EA9-8D24-1999B6FC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C3B2-C6BA-4AF4-9591-9D65C1CD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8C9C-DFBE-47F4-B3C2-4AD055B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6C11-6373-4F4D-A4C1-E03BBFE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C7CE-CDD4-49A4-8634-D10C3787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A349-FC5F-40E0-AC7C-62628B57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2F6-7069-4F91-BBB8-65AB0B7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0061-A7A5-4FCF-8E7C-067197B6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9962-9AA0-49FE-A0CF-130F71EE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3D28-D823-4C77-8550-2004B81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8259-5D9E-4722-A9D6-8803D0C3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BBD5-9CDE-47F0-9AE5-3F32459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BC00-FBBB-44E0-A1BD-CF79BB62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0890-B73C-4EF7-BAF0-3B832705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051-CEDB-4A27-BD04-86EA28C1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81C-C257-4073-BFCC-5A48F3FE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14A-1354-460A-B176-AF9F9DB5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FA7-978A-4A6C-95D2-9079E74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77D-AB59-463C-8D2A-E5B5FB2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158-6266-452D-9F44-427D8CE3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523e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D257-B83B-40B2-A0AD-FAA043B93C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523e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46354"/>
                </a:gs>
                <a:gs pos="100000">
                  <a:srgbClr val="6959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590C-3DCA-43F4-96A5-A78E1B9480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F8B2-3635-465D-89CC-D4E629E0C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Me llamo _____________       Clase 8 IM</a:t>
            </a:r>
            <a:br>
              <a:rPr sz="3600"/>
            </a:b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La fecha es el 21 de septiembre del 2012</a:t>
            </a:r>
            <a:endParaRPr b="0" lang="en-US" sz="36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Propósito # 2:</a:t>
            </a: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¿Estudiaron mucho durante el fin de seman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ompleta con la forma correcta del verbo en el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Verdana"/>
              </a:rPr>
              <a:t>pretérito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yer nosotras ____________ en la piscina. (nad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año pasado ellos ______________ un barco. (alquil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semana pasada él ______________ en el agua. (esqui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yer por la mañana yo ______________ el sol. (tom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yer por la tarde tú ________________. (buce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343320" cy="3590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219320" y="2209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os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19320" y="304920"/>
            <a:ext cx="6476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sta 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2925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staric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038480"/>
            <a:ext cx="312408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10240" y="4114800"/>
            <a:ext cx="3000240" cy="1946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3200" y="22860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24960" y="25909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962520"/>
            <a:ext cx="4952880" cy="2501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248520" y="4567320"/>
            <a:ext cx="2666880" cy="1833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29528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iudad de Panam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828800" y="304920"/>
            <a:ext cx="5486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nam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581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nameñ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4572000"/>
            <a:ext cx="266688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8640" y="27432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8480" y="3048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157640"/>
            <a:ext cx="4647960" cy="2406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019920" y="4538520"/>
            <a:ext cx="2895480" cy="1598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438280" y="2971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Hab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76520" y="228600"/>
            <a:ext cx="5790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ub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3657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ub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06720" y="30481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90000" y="3200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191040"/>
            <a:ext cx="3343320" cy="3590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86400" y="2666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o Domi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438280" y="152280"/>
            <a:ext cx="48769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La Repúbl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Dominic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3809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minic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4495680"/>
            <a:ext cx="32767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257800" y="4506840"/>
            <a:ext cx="3276720" cy="2046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330800" y="27432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96360" y="3429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040280"/>
            <a:ext cx="4800600" cy="2455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715000" y="4419720"/>
            <a:ext cx="2971800" cy="1752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286000" y="2590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52480" y="304920"/>
            <a:ext cx="56390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uerto R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3505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ertorriqueñ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4419720"/>
            <a:ext cx="304812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83040" y="26668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7720" y="3048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9456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1326600">
            <a:off x="4485960" y="1574640"/>
            <a:ext cx="2819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56386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3886200"/>
            <a:ext cx="259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615000">
            <a:off x="1523520" y="19494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5257800"/>
            <a:ext cx="119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78200" y="16765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3733920"/>
            <a:ext cx="641520" cy="24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92400" y="2041560"/>
            <a:ext cx="64152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97520" y="3184560"/>
            <a:ext cx="641160" cy="244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2438280"/>
            <a:ext cx="641520" cy="398520"/>
          </a:xfrm>
          <a:prstGeom prst="rect">
            <a:avLst/>
          </a:prstGeom>
          <a:solidFill>
            <a:srgbClr val="386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54520" y="4937040"/>
            <a:ext cx="641160" cy="24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2971800"/>
            <a:ext cx="488880" cy="2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233000">
            <a:off x="4495680" y="4281120"/>
            <a:ext cx="457200" cy="214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2096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133360" y="25909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3623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8862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819520" y="4419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5943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5181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44197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Arial"/>
              </a:rPr>
              <a:t>America del S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5720" y="18288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8000" y="1523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7320" y="39625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49640" y="50292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14400" y="52578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Urugu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4640" y="60199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91960" y="4267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0560" y="3429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2160" y="24224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cu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029200" y="4076640"/>
            <a:ext cx="3657600" cy="2247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216080" y="3429000"/>
            <a:ext cx="2898720" cy="3114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82880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ara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981080" y="304920"/>
            <a:ext cx="5410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Venezue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33066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enezol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4114800"/>
            <a:ext cx="365760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93880" y="25146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56840" y="28954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15236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124440" cy="2066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523880" y="2392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got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600200" y="304920"/>
            <a:ext cx="5943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lomb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3154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lombi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3886200"/>
            <a:ext cx="31244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3200" y="2438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6360" y="2666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3533760" cy="1981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652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u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752480" y="76320"/>
            <a:ext cx="5867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cu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34592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cuatori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419720"/>
            <a:ext cx="350532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6520" y="23623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80520" y="28954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3181320" cy="3438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981080" y="22096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286000" y="76320"/>
            <a:ext cx="4876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er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34592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eru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62720" y="4343400"/>
            <a:ext cx="320040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46520" y="22860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5440" y="28195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0481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give</a:t>
            </a:r>
            <a:endParaRPr b="0" lang="en-US" sz="32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/ella/Ud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sotro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Vosotro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os/ellas/Ud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296720" y="1600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6360" y="21337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5960" y="27432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9720" y="335268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9360" y="39625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iste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45259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e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3263760" cy="35053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828800" y="23162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P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6000" y="152280"/>
            <a:ext cx="4876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Bol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9" name=""/>
          <p:cNvSpPr/>
          <p:nvPr/>
        </p:nvSpPr>
        <p:spPr>
          <a:xfrm>
            <a:off x="579132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livi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62720" y="4114800"/>
            <a:ext cx="312408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6520" y="23623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24960" y="28195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297180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3247920" cy="3486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666960" cy="2066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905120" y="22096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s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905120" y="152280"/>
            <a:ext cx="5410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ragu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3078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raguay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05520" y="3962520"/>
            <a:ext cx="365760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6520" y="23623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6360" y="25909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504960" cy="2361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981080" y="21337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onte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905120" y="228600"/>
            <a:ext cx="5562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Urugu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ruguay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962520"/>
            <a:ext cx="3504960" cy="23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54440" y="22096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80520" y="28195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32320" cy="5639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i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8320" y="22860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h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3581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ile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267080"/>
            <a:ext cx="312408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21320" y="23623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28240" y="31240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620800" cy="5638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952880" y="2362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uenos 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038480" y="380880"/>
            <a:ext cx="4800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Argent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3581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genti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4267080"/>
            <a:ext cx="358164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97640" y="2438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44080" y="31240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342900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219560" y="990720"/>
            <a:ext cx="4848120" cy="5438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057400" y="3809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4191120"/>
            <a:ext cx="3352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981080" cy="1611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 flipH="1">
            <a:off x="5181120" y="36576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813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200" y="5715000"/>
            <a:ext cx="234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uinea Ecua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105520" y="837720"/>
            <a:ext cx="30456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638680" y="837720"/>
            <a:ext cx="53352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01320" y="5335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0000"/>
                </a:solidFill>
                <a:latin typeface="Arial"/>
              </a:rPr>
              <a:t>Ceu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800" y="5335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0000"/>
                </a:solidFill>
                <a:latin typeface="Arial"/>
              </a:rPr>
              <a:t>Meli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H="1">
            <a:off x="685440" y="3124080"/>
            <a:ext cx="11430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3720" y="4952880"/>
            <a:ext cx="108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32004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981080" y="1294920"/>
            <a:ext cx="327672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9144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14600" y="1676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d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2819520"/>
            <a:ext cx="213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españ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españ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3849840" cy="4211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1905120" y="15228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spañ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5791320"/>
            <a:ext cx="14479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35320" y="17524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5684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334120" y="4270320"/>
            <a:ext cx="2971800" cy="197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334120" y="4378320"/>
            <a:ext cx="2914560" cy="19461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352680" cy="3962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1066680" y="152280"/>
            <a:ext cx="7315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Guinea Equato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2286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l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048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uine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36115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quatoguin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9520" y="23623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04200" y="2666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a la hoja de tu pai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scribe en tus cuadernos los 7 continentes en orden alfabetic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Áfr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ntárt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uro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merica del Norte (Norte Americ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merica del Sur (Sur America; Sudaméric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Ubicación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Población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echos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Detalles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896200" y="5029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5410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5360" y="5867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4280" y="6248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merica del Norte, Central y el Caribe Hispano-habl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1143000" y="3733920"/>
            <a:ext cx="838080" cy="99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048120" y="4952880"/>
            <a:ext cx="1295280" cy="228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85840" y="533412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723920" y="3276720"/>
            <a:ext cx="83844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105160" y="4648320"/>
            <a:ext cx="15228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3376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648320" y="6095880"/>
            <a:ext cx="76176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171840" y="5867280"/>
            <a:ext cx="76212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28954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29600" y="4572000"/>
            <a:ext cx="0" cy="380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662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México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Puerto Rico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Cuba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Guatemala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638680"/>
            <a:ext cx="1676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Panamá 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4419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Honduras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6415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Costa Rica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4876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Nicaragua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2330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Republica Dominic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Verdana"/>
              </a:rPr>
              <a:t>El Salvador</a:t>
            </a: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809880"/>
            <a:ext cx="5029200" cy="2605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172200" y="4111560"/>
            <a:ext cx="2590920" cy="1755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590920" y="304920"/>
            <a:ext cx="4267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Méx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438280"/>
            <a:ext cx="28954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éxico D.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La Ciudad de Méxi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3048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exican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114800"/>
            <a:ext cx="259092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0920" y="25909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90000" y="2666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3200400" cy="3419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3286080" cy="2057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90720" y="2133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iudad de Guatem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981080" y="152280"/>
            <a:ext cx="5639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Guatema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uatemaltec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4343400"/>
            <a:ext cx="327636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320" y="23623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0" y="24382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4038480"/>
            <a:ext cx="4876920" cy="2463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29528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Salv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76520" y="38088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l Salv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2306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lvadoreñ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4191120"/>
            <a:ext cx="297180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8640" y="27432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095880" y="4191120"/>
            <a:ext cx="2819520" cy="1796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14040" y="2743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50532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479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gucigal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9320" y="304920"/>
            <a:ext cx="6324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Hondu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048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ndureño /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3886200"/>
            <a:ext cx="35053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00" y="2438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360" y="25909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083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311472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448080" cy="2066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71600" y="2362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n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19320" y="304920"/>
            <a:ext cx="6553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Nicarag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3078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icaragu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3962520"/>
            <a:ext cx="342900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00" y="2438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i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2680" y="25909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cion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52:00Z</dcterms:created>
  <dc:creator>Helen Zumaeta</dc:creator>
  <dc:description/>
  <dc:language>en-US</dc:language>
  <cp:lastModifiedBy>Helen Zumaeta</cp:lastModifiedBy>
  <dcterms:modified xsi:type="dcterms:W3CDTF">2012-09-20T19:30:26Z</dcterms:modified>
  <cp:revision>16</cp:revision>
  <dc:subject/>
  <dc:title>Me llamo _____________       Clase 9 IM La fecha es el 19 de septiembre del 2012</dc:title>
</cp:coreProperties>
</file>